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161FC-734E-42E1-A516-607ADA654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0DA00-EE41-4F1B-A073-C0DD18C9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10FF9-BA4C-41F1-82FA-990483C52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082FC-F054-4292-8D0D-1425A52CC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56B9C0-1BC3-48CE-ADA0-AD8EDF223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81DD8-F7BE-4ED5-982B-748F317D3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0FFDF-DF75-41D6-8E3E-BE9AB3A6D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669E6-57E7-4719-8312-F3DF8998B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8A141-CB16-46F6-9C42-C6D372D10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EFFBD-2076-4DAF-8427-C394FF6E88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15C21-B205-4DD2-AE24-926315326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9958D-E5E5-4920-9CD2-57164CFBA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FA6BF-3E5F-4988-90A1-E077DEAEA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B4345-1506-42A3-9E7F-7A3377C20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46AD6-CA25-487D-8F14-23E9D2A95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0B459-8FBB-45F2-8A24-EB469C4515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965E8-F26D-4BE9-A598-88C432574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CD42E-CD03-420F-823D-377B5ED5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8B2D-9825-40F8-AF57-760D21CF7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0656D-8A4D-4159-AE91-84B109799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F7D1B-CEB3-4B9B-8B18-43D4BCAA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511F-719E-47A8-B2D9-B53F647D8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D2711-8687-49EF-B81D-2CCCE3B0D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D6EF-EE8F-4B38-BCBE-3A81F1F60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8400-9E66-4321-99FD-D419BF09DA02}"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B5D8-303B-481C-BE08-1016E31EB40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4800" spc="-1" strike="noStrike">
              <a:solidFill>
                <a:srgbClr val="ccffff"/>
              </a:solidFill>
              <a:latin typeface="Tahoma"/>
            </a:endParaRPr>
          </a:p>
        </p:txBody>
      </p:sp>
      <p:sp>
        <p:nvSpPr>
          <p:cNvPr id="85" name=""/>
          <p:cNvSpPr txBox="1"/>
          <p:nvPr/>
        </p:nvSpPr>
        <p:spPr>
          <a:xfrm>
            <a:off x="3056040" y="2778120"/>
            <a:ext cx="3028680" cy="1295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ECNICO      E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UERICULTUR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86" name=""/>
          <p:cNvSpPr txBox="1"/>
          <p:nvPr/>
        </p:nvSpPr>
        <p:spPr>
          <a:xfrm>
            <a:off x="1371600" y="2209680"/>
            <a:ext cx="655308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ECNICO       E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UERICULTURA</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8487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ERFIL DELPERSONAL DOCENTE</a:t>
            </a:r>
            <a:br>
              <a:rPr sz="2400"/>
            </a:br>
            <a:br>
              <a:rPr sz="2400"/>
            </a:br>
            <a:r>
              <a:rPr b="0" lang="en-US" sz="2400" spc="-1" strike="noStrike">
                <a:solidFill>
                  <a:srgbClr val="ccffff"/>
                </a:solidFill>
                <a:latin typeface="Tahoma"/>
              </a:rPr>
              <a:t>PROFESIONALES EN LAS AREAS DE PEDAGOGIA, EDUCACION PREESCOLAR, PSICOLOGIA INFANTIL, NUTRICION Y MEDICINA, CON VOCACION DE IMPARTIR Y COMPARTIR SUS CONOCIMIENTOS PARA FORMAR TECNICOS CAPACITADOS EN LA FORMACION INTEGRAL DEL INFANTE</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43000"/>
            <a:ext cx="792504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STRUCTURA CURRICULAR</a:t>
            </a:r>
            <a:br>
              <a:rPr sz="2400"/>
            </a:br>
            <a:br>
              <a:rPr sz="2400"/>
            </a:br>
            <a:r>
              <a:rPr b="0" lang="en-US" sz="2400" spc="-1" strike="noStrike">
                <a:solidFill>
                  <a:srgbClr val="ccffff"/>
                </a:solidFill>
                <a:latin typeface="Tahoma"/>
              </a:rPr>
              <a:t>EL PLAN DE ESTUDIOS ESTA DIVIDIDOEN 2 AREAS, CORRESPONDIENDO LA LLAMADA DE TRNCO COMUN Y LAS TECNOLOGICAS QUE A SU VEZ SE SUBDIVIDEN EN PEDAGOGICAS Y DE SALUD EL PLAN DE ESTUDIOS SE ENCUENTRA ORGANIZADO POR MATERIAS SERIADAS CON LA CANTIDAD DETERMINADA DE HORAS CLASE TANTO TEORICAS COMO PRACTICAS CONTANDO CON LA ASIGNACION DE CREDITOS PARA CADA UN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RONCO COMUN</a:t>
            </a:r>
            <a:br>
              <a:rPr sz="2400"/>
            </a:br>
            <a:br>
              <a:rPr sz="2400"/>
            </a:br>
            <a:r>
              <a:rPr b="0" lang="en-US" sz="2400" spc="-1" strike="noStrike">
                <a:solidFill>
                  <a:srgbClr val="ccffff"/>
                </a:solidFill>
                <a:latin typeface="Tahoma"/>
              </a:rPr>
              <a:t>MATEMATICA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QUIM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FIS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TALLER DE LECTURA Y REDAC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INGLE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BI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INTRODUCCION A LAS CIENCIAS SOCIALES</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METODOS DE INVESTIGA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T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STRUCTURAS SOCIOECONOMICAS DE MEXIC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HISTORIA DE MEXIC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FILOSOFI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69608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ECNOLOGICAS PEDAGOGICAS</a:t>
            </a:r>
            <a:br>
              <a:rPr sz="2400"/>
            </a:br>
            <a:br>
              <a:rPr sz="2400"/>
            </a:br>
            <a:r>
              <a:rPr b="0" lang="en-US" sz="2400" spc="-1" strike="noStrike">
                <a:solidFill>
                  <a:srgbClr val="ccffff"/>
                </a:solidFill>
                <a:latin typeface="Tahoma"/>
              </a:rPr>
              <a:t>PSICOLOGIA INFANTIL</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DIBUJ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EDUCACION PREESCOLAR</a:t>
            </a:r>
            <a:r>
              <a:rPr b="0" lang="en-US" sz="2400" spc="-1" strike="noStrike">
                <a:solidFill>
                  <a:srgbClr val="ccffff"/>
                </a:solidFill>
                <a:latin typeface="Tahoma"/>
              </a:rPr>
              <a:t>	</a:t>
            </a:r>
            <a:r>
              <a:rPr b="0" lang="en-US" sz="2400" spc="-1" strike="noStrike">
                <a:solidFill>
                  <a:srgbClr val="ccffff"/>
                </a:solidFill>
                <a:latin typeface="Tahoma"/>
              </a:rPr>
              <a:t>LUD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PRACTICAS DE CAMPO</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ACTIVIDADES MUSICALES, TEATRO Y LITERATURA INFANTIL</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	</a:t>
            </a:r>
            <a:br>
              <a:rPr sz="2400"/>
            </a:br>
            <a:r>
              <a:rPr b="0" lang="en-US" sz="2400" spc="-1" strike="noStrike">
                <a:solidFill>
                  <a:srgbClr val="ccffff"/>
                </a:solidFill>
                <a:latin typeface="Tahoma"/>
              </a:rPr>
              <a:t>	</a:t>
            </a:r>
            <a:r>
              <a:rPr b="0" lang="en-US" sz="2400" spc="-1" strike="noStrike">
                <a:solidFill>
                  <a:srgbClr val="ccffff"/>
                </a:solidFill>
                <a:latin typeface="Tahoma"/>
              </a:rPr>
              <a:t>PEDAGOGIA Y DIDACT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TERAPIA OCUPACIONAL INFANTIL</a:t>
            </a:r>
            <a:r>
              <a:rPr b="0" lang="en-US" sz="2400" spc="-1" strike="noStrike">
                <a:solidFill>
                  <a:srgbClr val="ccffff"/>
                </a:solidFill>
                <a:latin typeface="Tahoma"/>
              </a:rPr>
              <a:t>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TECNOLOGICAS DE SALUD</a:t>
            </a:r>
            <a:br>
              <a:rPr sz="2400"/>
            </a:br>
            <a:br>
              <a:rPr sz="2400"/>
            </a:br>
            <a:r>
              <a:rPr b="0" lang="en-US" sz="2400" spc="-1" strike="noStrike">
                <a:solidFill>
                  <a:srgbClr val="ccffff"/>
                </a:solidFill>
                <a:latin typeface="Tahoma"/>
              </a:rPr>
              <a:t>PUERICULTUR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SALUD PUBLIC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ANATOMIA Y FISIOLOGIA</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NUTRICION</a:t>
            </a:r>
            <a:r>
              <a:rPr b="0" lang="en-US" sz="2400" spc="-1" strike="noStrike">
                <a:solidFill>
                  <a:srgbClr val="ccffff"/>
                </a:solidFill>
                <a:latin typeface="Tahoma"/>
              </a:rPr>
              <a:t>	</a:t>
            </a:r>
            <a:r>
              <a:rPr b="0" lang="en-US" sz="2400" spc="-1" strike="noStrike">
                <a:solidFill>
                  <a:srgbClr val="ccffff"/>
                </a:solidFill>
                <a:latin typeface="Tahoma"/>
              </a:rPr>
              <a:t>	</a:t>
            </a:r>
            <a:r>
              <a:rPr b="0" lang="en-US" sz="2400" spc="-1" strike="noStrike">
                <a:solidFill>
                  <a:srgbClr val="ccffff"/>
                </a:solidFill>
                <a:latin typeface="Tahoma"/>
              </a:rPr>
              <a:t>PEDIATRIA CLINICA</a:t>
            </a:r>
            <a:r>
              <a:rPr b="0" lang="en-US" sz="2400" spc="-1" strike="noStrike">
                <a:solidFill>
                  <a:srgbClr val="ccffff"/>
                </a:solidFill>
                <a:latin typeface="Tahoma"/>
              </a:rPr>
              <a:t>	</a:t>
            </a:r>
            <a:r>
              <a:rPr b="0" lang="en-US" sz="2400" spc="-1" strike="noStrike">
                <a:solidFill>
                  <a:srgbClr val="ccffff"/>
                </a:solidFill>
                <a:latin typeface="Tahoma"/>
              </a:rPr>
              <a:t>	</a:t>
            </a:r>
            <a:br>
              <a:rPr sz="2400"/>
            </a:br>
            <a:r>
              <a:rPr b="0" lang="en-US" sz="2400" spc="-1" strike="noStrike">
                <a:solidFill>
                  <a:srgbClr val="ccffff"/>
                </a:solidFill>
                <a:latin typeface="Tahoma"/>
              </a:rPr>
              <a:t>TERAPIA RECREATIVA INFANTIL</a:t>
            </a:r>
            <a:br>
              <a:rPr sz="2400"/>
            </a:br>
            <a:r>
              <a:rPr b="0" lang="en-US" sz="2400" spc="-1" strike="noStrike">
                <a:solidFill>
                  <a:srgbClr val="ccffff"/>
                </a:solidFill>
                <a:latin typeface="Tahoma"/>
              </a:rPr>
              <a:t>PUERICULTURA SOCIAL</a:t>
            </a:r>
            <a:br>
              <a:rPr sz="2400"/>
            </a:br>
            <a:r>
              <a:rPr b="0" lang="en-US" sz="2400" spc="-1" strike="noStrike">
                <a:solidFill>
                  <a:srgbClr val="ccffff"/>
                </a:solidFill>
                <a:latin typeface="Tahoma"/>
              </a:rPr>
              <a:t>ORGANIZACIÓN Y ADMINISTRACION DE INSTITUCIONES DE ATENCION AL NIÑO</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95280"/>
            <a:ext cx="7848720" cy="502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VINCULACION DEL TECNICO PUERICULTISTA</a:t>
            </a:r>
            <a:br>
              <a:rPr sz="2400"/>
            </a:br>
            <a:br>
              <a:rPr sz="2400"/>
            </a:br>
            <a:r>
              <a:rPr b="0" lang="en-US" sz="2400" spc="-1" strike="noStrike">
                <a:solidFill>
                  <a:srgbClr val="ccffff"/>
                </a:solidFill>
                <a:latin typeface="Tahoma"/>
              </a:rPr>
              <a:t>EL PROFESIONISTA SE RELACIONA CON EL PERSONAL MULTIDISCIPLINARIO DE LAS DIFERENTES INSTITUCIONES QUE PRESTAN ATENCION AL NIÑO COMO SON: MEDICOS, PSICOLOGOS, PEDAGOGOS, EDUCADORES, ENFERMERAS, TRABAJADORES SOCIALES, ASISTENTES EDUCATIVOS, TERAPISTAS, ETC.</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CAMPOS DE TRABAJO</a:t>
            </a:r>
            <a:br>
              <a:rPr sz="2400"/>
            </a:br>
            <a:br>
              <a:rPr sz="2400"/>
            </a:br>
            <a:r>
              <a:rPr b="0" lang="en-US" sz="2400" spc="-1" strike="noStrike">
                <a:solidFill>
                  <a:srgbClr val="ccffff"/>
                </a:solidFill>
                <a:latin typeface="Tahoma"/>
              </a:rPr>
              <a:t>CENTROS DE DESARROLLO INFANTIL, JARDINE DE NIÑOS, ESTANCIAS DE BIENESTAR INFANTIL, GUARDERIAS, CASA CUNA, CASA HOGAR, ORFANATOS, HOSPITALES PEDIATRICOS, HOSPITALES MATERNO-INFANTIL, CENTROS DE REHABILITACION INFANTIL, CIRCULOS INFANTILES Y CENTROS DE ESTIMULACION INFANTIL</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1142640"/>
            <a:ext cx="7924680" cy="571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FUNCIONES</a:t>
            </a:r>
            <a:br>
              <a:rPr sz="2400"/>
            </a:br>
            <a:br>
              <a:rPr sz="2400"/>
            </a:br>
            <a:r>
              <a:rPr b="0" lang="en-US" sz="2400" spc="-1" strike="noStrike">
                <a:solidFill>
                  <a:srgbClr val="ccffff"/>
                </a:solidFill>
                <a:latin typeface="Tahoma"/>
              </a:rPr>
              <a:t>DESARROLLO DE PLANES Y PROGRAMAS DE ATENCION Y PSICOPEDAGOGIA APLICANDO LAS NORMAS GENERALES DE LA EDUCACION.</a:t>
            </a:r>
            <a:br>
              <a:rPr sz="2400"/>
            </a:br>
            <a:r>
              <a:rPr b="0" lang="en-US" sz="2400" spc="-1" strike="noStrike">
                <a:solidFill>
                  <a:srgbClr val="ccffff"/>
                </a:solidFill>
                <a:latin typeface="Tahoma"/>
              </a:rPr>
              <a:t>ELABORA Y APLICA PLANES Y PROGRAMAS DE ESTIMULACION EN EL DESARROLLO DEL NIÑO PARA QUE LOGRE UNA MADUREZ OPTIMA QUE LE PERMITA SATISFACER SUS NECESIDADES BASICAS.</a:t>
            </a:r>
            <a:br>
              <a:rPr sz="2400"/>
            </a:br>
            <a:r>
              <a:rPr b="0" lang="en-US" sz="2400" spc="-1" strike="noStrike">
                <a:solidFill>
                  <a:srgbClr val="ccffff"/>
                </a:solidFill>
                <a:latin typeface="Tahoma"/>
              </a:rPr>
              <a:t>PROMUEVE Y FOMENTA LA SALUD MEDIANTE LA REALIZACION DE ACTIVIDADES ACORDES A LAS POLITICAS DEL SECTOR SALUD A FIN DE DISMINUIR LA INCIDENCIA DE ENFERMEDADES INFANTILES.</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800"/>
            <a:ext cx="7620120" cy="4648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FILOSOFIA EN PUERICULTURA</a:t>
            </a:r>
            <a:br>
              <a:rPr sz="2400"/>
            </a:br>
            <a:br>
              <a:rPr sz="2400"/>
            </a:br>
            <a:r>
              <a:rPr b="0" lang="en-US" sz="2400" spc="-1" strike="noStrike">
                <a:solidFill>
                  <a:srgbClr val="ccffff"/>
                </a:solidFill>
                <a:latin typeface="Tahoma"/>
              </a:rPr>
              <a:t>EL FUTURO DEL PAIS RADICA EN LA NIÑEZ POR ELLO ES IMPORTANTE ATENDER A TIEMPO LOS PROBLEMAS RELACIONADOS CON EL DESARROLLO Y EDUCACION DE LOS NIÑOS DESDE LAS ETAPAS TEMPRANAS Y ASI LOGRAR UN DESARROLLO INTEGRAL</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828440"/>
            <a:ext cx="7772400" cy="3962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ROFESIONAL QUE CONOCE TODOS LOS ASPECTOS BIOLOGICOS , PSICOLOGICOS Y SOCIALES QUE INFLUYEN EN EL DESARROLLO INTEGRAL DEL NIÑO, ESTE CONOCIMIENTO ABARCA 5 ETAPAS QUE SON:</a:t>
            </a:r>
            <a:endParaRPr b="0" lang="en-US" sz="36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1523880"/>
            <a:ext cx="7924680" cy="365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RECONCEPCIONAL</a:t>
            </a:r>
            <a:br>
              <a:rPr sz="2400"/>
            </a:br>
            <a:br>
              <a:rPr sz="2400"/>
            </a:br>
            <a:r>
              <a:rPr b="0" lang="en-US" sz="2400" spc="-1" strike="noStrike">
                <a:solidFill>
                  <a:srgbClr val="ccffff"/>
                </a:solidFill>
                <a:latin typeface="Tahoma"/>
              </a:rPr>
              <a:t>ESTUDIA LAS CARACTERISTICAS Y CUIDADOS DE SALUD DE LOS FUTUROS PADRES COMO: HERENCIA, SALUD REPRODUCTIVA, PLANIFICACION FAMILIAR,EDUCACION SEXUAL, PATERNIDAD Y MATERNIDAD RESPONSABLE, FAMILIA, ETC.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1066680"/>
            <a:ext cx="7620120" cy="426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CONCEPCIONAL</a:t>
            </a:r>
            <a:br>
              <a:rPr sz="3600"/>
            </a:br>
            <a:br>
              <a:rPr sz="3600"/>
            </a:br>
            <a:r>
              <a:rPr b="0" lang="en-US" sz="2400" spc="-1" strike="noStrike">
                <a:solidFill>
                  <a:srgbClr val="ccffff"/>
                </a:solidFill>
                <a:latin typeface="Tahoma"/>
              </a:rPr>
              <a:t>ESTUDIA LOS FENOMENOS BIOLOGICOS QUE SUCEDEN EN LA UNION DEL OVULO CON EL ESPERMATOZOIDE COMO: ANATOMIA Y FISIOLOGIA DE LOS APARATOS REPRODUCTORES MASCULINO Y FEMENINO, ASI COMO EL PROCESO DE FECUNDACION</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1828800"/>
            <a:ext cx="7772400" cy="3276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RENATAL</a:t>
            </a:r>
            <a:br>
              <a:rPr sz="3600"/>
            </a:br>
            <a:br>
              <a:rPr sz="2400"/>
            </a:br>
            <a:br>
              <a:rPr sz="2400"/>
            </a:br>
            <a:r>
              <a:rPr b="0" lang="en-US" sz="2400" spc="-1" strike="noStrike">
                <a:solidFill>
                  <a:srgbClr val="ccffff"/>
                </a:solidFill>
                <a:latin typeface="Tahoma"/>
              </a:rPr>
              <a:t>ESTUDIA LOS CAMBIOS QUE OCURREN EN EL ORGANISMO MATERNO EN EL PROCESO DEL DESARROLLO DEL PRODUCTO DURANTE EL EMBARAZO</a:t>
            </a:r>
            <a:br>
              <a:rPr sz="3600"/>
            </a:b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434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NATAL</a:t>
            </a:r>
            <a:br>
              <a:rPr sz="3600"/>
            </a:br>
            <a:br>
              <a:rPr sz="3600"/>
            </a:br>
            <a:r>
              <a:rPr b="0" lang="en-US" sz="2400" spc="-1" strike="noStrike">
                <a:solidFill>
                  <a:srgbClr val="ccffff"/>
                </a:solidFill>
                <a:latin typeface="Tahoma"/>
              </a:rPr>
              <a:t>ESTUDIA TODOS LOS PROCESOS QUE OCURREN DURANTE EL PARTO Y PUERPERIO</a:t>
            </a:r>
            <a:br>
              <a:rPr sz="2400"/>
            </a:br>
            <a:br>
              <a:rPr sz="2400"/>
            </a:b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441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ETAPA POSNATAL</a:t>
            </a:r>
            <a:br>
              <a:rPr sz="3600"/>
            </a:br>
            <a:br>
              <a:rPr sz="3600"/>
            </a:br>
            <a:r>
              <a:rPr b="0" lang="en-US" sz="2400" spc="-1" strike="noStrike">
                <a:solidFill>
                  <a:srgbClr val="ccffff"/>
                </a:solidFill>
                <a:latin typeface="Tahoma"/>
              </a:rPr>
              <a:t>ESTUDIA TODOS LOS CAMBIOS FISICOS, PSICOLOGICOS Y SOCIALES DESDE LA ETAPA NEONATAL HASTA LA ADOLESCENCIA</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18960"/>
            <a:ext cx="7925040" cy="518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PROBLEMÁTICA DE LA CARRERA</a:t>
            </a:r>
            <a:br>
              <a:rPr sz="2400"/>
            </a:br>
            <a:br>
              <a:rPr sz="2400"/>
            </a:br>
            <a:r>
              <a:rPr b="0" lang="en-US" sz="2400" spc="-1" strike="noStrike">
                <a:solidFill>
                  <a:srgbClr val="ccffff"/>
                </a:solidFill>
                <a:latin typeface="Tahoma"/>
              </a:rPr>
              <a:t>POR SER UNA CARRERA RELATIVAMENTE NUEVA Y DESCONOCIDA PARA MUCHOS, LOS CAMPOS DE ACCION SON LIMITADOS Y MINIMIZADOS, POR ELLO EN QUERETARO SE REQUIERE QUE ELSECTOR SALUD ASIMILE EN SUS INSTITUCIONES A NUESTRAS EGRESADAS EN LAS DIVERSAS AREAS DONDE ELLASPUEDAN LABORAR YA QUE HAY UN DESPERDICIO DE RECURSOS HUMANOS CAPACITADOS TANTO EN EL SECTOR SALUD COMO EN EL EDUCATIVO</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848720" cy="457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OBJETIVO GENERAL DE LA CARRERA</a:t>
            </a:r>
            <a:br>
              <a:rPr sz="2400"/>
            </a:br>
            <a:br>
              <a:rPr sz="2400"/>
            </a:br>
            <a:r>
              <a:rPr b="0" lang="en-US" sz="2400" spc="-1" strike="noStrike">
                <a:solidFill>
                  <a:srgbClr val="ccffff"/>
                </a:solidFill>
                <a:latin typeface="Tahoma"/>
              </a:rPr>
              <a:t>LA CARRERA DE PUERICULTURA DEL BACHILLERATO TECNOLOGICO EN EL NIVEL MEDIO SUPERIOR TIENE COMO OBJETIVO FORMAR TECNICOS QUE CUENTEN CON UNA PREPARACION PROPEDEUTICA QUE LES PERMITA CONTINUAR ESTUDIOS A NIVEL LICENCIATURA EN EL AREA QUIMICO-BIOLOGICA </a:t>
            </a:r>
            <a:endParaRPr b="0" lang="en-US" sz="2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2:54:03Z</dcterms:created>
  <dc:creator>B.SILVIA TORRES GUERRERO</dc:creator>
  <dc:description/>
  <dc:language>en-US</dc:language>
  <cp:lastModifiedBy>B.SILVIA TORRES GUERRERO</cp:lastModifiedBy>
  <dcterms:modified xsi:type="dcterms:W3CDTF">2007-02-14T06:03:30Z</dcterms:modified>
  <cp:revision>3</cp:revision>
  <dc:subject/>
  <dc:title>TECNICO EN PUERICULTURA</dc:title>
</cp:coreProperties>
</file>